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FB92-01BF-4E5F-BA14-311BCACA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C335-1789-4E00-B754-984BE81C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6050-1241-4601-86ED-5D94F85BB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F1B6-F148-475C-A21F-7F6AB7678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E7D7-E024-4085-BC09-110A51B7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9808-43F2-480A-927B-7CF7DB15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B755-741E-4549-B6B9-F8873972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2895-7605-4CBE-B80E-480395F7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0B17-361C-4137-8CF7-15BCB046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9B83-4FA9-4F69-9395-592C8281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BF6E-55B1-4F43-84BF-05AED17D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6BC1-C778-4AF8-B6D2-FFD1360E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C715-2302-4B41-B525-0C7AD012D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1143000"/>
            <a:ext cx="441972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1523880" y="457164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2743200" y="426672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3886200" y="35053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724280" y="167652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5638680" y="114300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8:48:02Z</dcterms:created>
  <dc:creator>10IoannidisV</dc:creator>
  <dc:description/>
  <dc:language>en-US</dc:language>
  <cp:lastModifiedBy>10IoannidisV</cp:lastModifiedBy>
  <dcterms:modified xsi:type="dcterms:W3CDTF">2008-05-06T18:48:04Z</dcterms:modified>
  <cp:revision>1</cp:revision>
  <dc:subject/>
  <dc:title>Slide 1</dc:title>
</cp:coreProperties>
</file>